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TYPE.WAV" ContentType="audio/x-wav"/>
  <Override PartName="/ppt/media/image7.jpeg" ContentType="image/jpeg"/>
  <Override PartName="/ppt/media/image16.jpeg" ContentType="image/jpeg"/>
  <Override PartName="/ppt/media/image15.jpeg" ContentType="image/jpeg"/>
  <Override PartName="/ppt/media/LASER.WAV" ContentType="audio/x-wav"/>
  <Override PartName="/ppt/media/image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17.jpeg" ContentType="image/jpeg"/>
  <Override PartName="/ppt/media/DRIVEBY.WAV" ContentType="audio/x-wav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8F4-5F36-43AD-AD6E-865CFE9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C47-38F3-43A3-AFC1-83B26FC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2DC-5874-4D31-8FD6-0835FEF7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A56-3429-40E5-8686-EBD0AA36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B924-ABB3-4356-8E37-CA211CFB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086F-82F7-4630-B308-0E0ECBAA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898-D788-4A2A-993B-13568D5B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9846-B639-4D19-A203-AF2BC523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969-C3B1-4A27-A601-1E7CD91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EE51-46A1-4A21-B616-6AAE83A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189-4243-48AF-ACB5-8D27CC7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63C-2DB4-4EFA-A9E6-2842A884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B2FE-8856-42E4-9DBB-79F7001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8449-9376-4DB9-B2EE-FE9D1C1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9B2D-5D62-4784-9A23-B27974C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5241-597F-4D59-91F7-E4DCEF8F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DA7-C997-4E26-B3B1-40403777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1C-8256-43E9-8151-61E0C34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AA7-942B-4C8D-A1C4-023D2EA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5A3-834F-4E25-9CD1-B33940E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8B0-3413-431F-9EB7-573F87B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7FD-4803-4868-AF2E-2966E93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759-4077-4A95-9C78-2372172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F34-53BB-4DFE-B11E-313626E3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BB9-7CE8-48F6-964E-D2392E45C2CE}" type="datetime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EFB-E05D-4A5D-BC58-75C3ACDE0B2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685800" y="6858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4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A9F-ADDA-420D-ABFB-D8A6C098F3C8}" type="datetime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8628-C0B4-4986-A663-132D2331574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800" spc="-1" strike="noStrike">
              <a:solidFill>
                <a:srgbClr val="2a3d7a"/>
              </a:solidFill>
              <a:latin typeface="华文行楷"/>
              <a:ea typeface="华文行楷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05120" y="1600200"/>
            <a:ext cx="5638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野生动物的保护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666880"/>
            <a:ext cx="3047760" cy="1905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9ddf1"/>
          </a:solidFill>
          <a:ln w="9360">
            <a:solidFill>
              <a:srgbClr val="cc9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有人保护我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终于可以睡个好觉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6629040" y="4724280"/>
            <a:ext cx="1981080" cy="17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ED4-4CC0-4E68-B01F-80913E7DA8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2D2090-7CC8-44FB-B8AC-B89D839F2609}" type="datetime1">
              <a:rPr lang="en-US"/>
              <a:t>07/30/26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华文行楷"/>
                <a:ea typeface="华文行楷"/>
              </a:rPr>
              <a:t>造成这种状况的原因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42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77B-2F9E-466C-BE1A-FFF3FA24793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23C99-9BCC-48AF-83BA-ACEE68E083AB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华文行楷"/>
                <a:ea typeface="华文行楷"/>
              </a:rPr>
              <a:t>造成这种状况的原因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2096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野生动物这种恶劣处境的形成不是一朝一夕的，也不是单方面的。既有客观因素（如气候等），也有人为因素（如捕杀等），这是造成野生动物目前数量和种类急剧减少的最主要原因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D79-3F88-4E69-89DB-F70663C5BA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99AF1-5BCB-4823-8226-A23E5F3C9B5D}" type="datetime1">
              <a:rPr lang="en-US"/>
              <a:t>07/30/26</a:t>
            </a:fld>
          </a:p>
        </p:txBody>
      </p:sp>
    </p:spTree>
  </p:cSld>
  <p:transition spd="med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调查实录</a:t>
            </a: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1</a:t>
            </a: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星期日，我们调查小组几位同学到浮山实地观察，发现山上已有多张支好的捕鸟网，地上随处可见飘落的羽毛，有的还带有血迹，其情景惨不忍睹，使人不禁要质问那些捕鸟者，怎么忍心为了一点利益，就去残害人类的朋友，良心何在？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4C3-4C90-4172-BD11-70B621EC929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F3EE1-FFE4-469C-930A-A9085356ED94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调查实录</a:t>
            </a: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2</a:t>
            </a:r>
            <a:r>
              <a:rPr b="0" lang="zh-CN" sz="5400" spc="-1" strike="noStrike">
                <a:solidFill>
                  <a:srgbClr val="2a3d7a"/>
                </a:solidFill>
                <a:latin typeface="华文隶书"/>
                <a:ea typeface="华文隶书"/>
              </a:rPr>
              <a:t>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00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吃奇、吃异、胡乱吃野生动物进补成为一些人的饮食追求，基于此，我们对某饭店的顾客进行了如下调查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716360" cy="59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B11-AE21-48F0-B8E1-F9F49606B49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1563F-AC27-4088-8DFA-0C4080465410}" type="datetime1">
              <a:rPr lang="en-US"/>
              <a:t>07/30/26</a:t>
            </a:fld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11280" y="260280"/>
            <a:ext cx="8856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您是否吃过野生动物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吃过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46.2%)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没有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51.1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 经常吃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.7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流行吃野生动物的原因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相信能增加营养或有滋补作用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45.8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出于好奇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38.3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为了显示身份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5 .9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是否有必要吃野生动物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有必要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1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没必要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76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不知道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3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华文隶书"/>
                <a:ea typeface="华文隶书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华文隶书"/>
                <a:ea typeface="华文隶书"/>
              </a:rPr>
              <a:t>、</a:t>
            </a:r>
            <a:r>
              <a:rPr b="1" lang="zh-CN" sz="3600" spc="-1" strike="noStrike">
                <a:solidFill>
                  <a:srgbClr val="5b5249"/>
                </a:solidFill>
                <a:latin typeface="华文隶书"/>
                <a:ea typeface="华文隶书"/>
              </a:rPr>
              <a:t>是否了解所吃的野生动物现在生存环  境和现状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了解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44.9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不了解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55.1%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263-038A-4779-A5F1-0CD55CCD6A06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B5E2C-FAA6-44FF-96C0-DCEFBFBEF249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华文行楷"/>
                <a:ea typeface="华文行楷"/>
              </a:rPr>
              <a:t>保护措施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5759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首先，培养公民爱护、保护野生动物的意识，从自身做起，从小事做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其次，有关部门要及时有效的打击非法猎杀、贩卖、销售 、食用珍贵野生动物的行为，从法律制度上加以制止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最后，应建立专门的部门进行保护、培养珍稀野生动物，使他们不会因人为因素和自然因素而灭亡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5383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AD7-C456-4E13-84C3-F8BCE4C958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3C334-80F6-4F01-8978-E5546F7FC6BF}" type="datetime1">
              <a:rPr lang="en-US"/>
              <a:t>07/30/26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华文隶书"/>
              </a:rPr>
              <a:t>我们的呼唤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4b96"/>
                </a:solidFill>
                <a:latin typeface="宋体"/>
                <a:ea typeface="楷体_GB2312"/>
              </a:rPr>
              <a:t>醒悟吧，曾经残害和正在残害野生动物的人们，为了我们也能生活得更加美好，从现在起，保护好我们人类的朋友，珍爱那些野生动物吧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A46-20AE-42B0-BBFB-1C583F9714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015C9-BC6A-4F6D-B892-7B4F749F2DE8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6172200" cy="53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400000">
            <a:off x="5486400" y="4114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人离我远点！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0666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难道我们连这么可爱的动物也要残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091-6C7E-4715-A746-78AAE9499DA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C7550-5512-4E89-AFA1-12BFD59EB215}" type="datetime1">
              <a:rPr lang="en-US"/>
              <a:t>07/30/26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3619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当前野生动物是一种珍贵的自然资源，是人类的宝贵财富。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8380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野生动物对我们有多重要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21F-D69F-46D8-B6C8-6072685619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720AF-3786-41FA-B62A-445C3D2EE61D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水生动物是我们生活中动物蛋白质的重要来源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C66-322E-4585-BCC7-7B6D363484A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6896B-6E8A-4A6F-A0A6-70DC415042EB}" type="datetime1">
              <a:rPr lang="en-US"/>
              <a:t>07/30/26</a:t>
            </a:fld>
          </a:p>
        </p:txBody>
      </p:sp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如果没有益鸟，益虫的保护，农业生产也难以正常进行。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608328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5400000">
            <a:off x="-2133720" y="312408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它在仇视我们将它的同伴捕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914040" y="3429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好可怕的眼神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F52-4F59-41A2-8C94-897EE3FD247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A2415-6B3A-42B1-9CB8-CFAED1739007}" type="datetime1">
              <a:rPr lang="en-US"/>
              <a:t>07/30/26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丰富多彩的野生动物是一个庞大无比的天然“基因库”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1625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A12-2027-4A24-BEE9-73A48F98009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4B1AE-256F-4A8B-8DE7-7A3FFB7F7073}" type="datetime1">
              <a:rPr lang="en-US"/>
              <a:t>07/30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总之：野生动物在我们生活中具有举足轻重的地位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968720" cy="414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99B-EF4B-4F50-A180-9A0A09009B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78D98-C7C9-4550-8C4F-C071F825B192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华文行楷"/>
                <a:ea typeface="华文行楷"/>
              </a:rPr>
              <a:t>野生动物目前状况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553080" cy="436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5400000">
            <a:off x="6210360" y="400032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真可怜啊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7BE-C98E-4883-B7A6-CD4A2B4D3F2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3C4B2-6CD3-489C-966D-5C69E28548F9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华文行楷"/>
                <a:ea typeface="华文行楷"/>
              </a:rPr>
              <a:t>野生动物目前状况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492280"/>
            <a:ext cx="80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71600"/>
            <a:ext cx="891540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野生动物既然这么重要，那么它们的生存环境又如何呢？回答是十分不妙。现在许多野生动物面临着绝种的危险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当前，生物资源的衰退是惊人的，灭绝的速度也越来越快。据“国际自然与自然资源保护同盟”的资料显示：自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850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年以来，人类已使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种鸟类和哺乳动物绝种，使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359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种鸟类和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297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种兽类动物面临灭绝的危险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7EE-1AC1-4A1B-B186-BF3E0CD6503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3933D-A7B3-4AD5-A670-55C54DD08A52}" type="datetime1">
              <a:rPr lang="en-US"/>
              <a:t>07/30/26</a:t>
            </a:fld>
          </a:p>
        </p:txBody>
      </p:sp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另据报道，欧洲大雷鸟正在急剧衰落，澳洲鸭嘴兽所剩无几，阿拉伯长角羚羊已接近绝种，鲸类正苟延残喘，朱禧鹮全世界目前仅有</a:t>
            </a:r>
            <a:r>
              <a:rPr b="1" lang="zh-CN" sz="36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只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5440" y="3068640"/>
            <a:ext cx="4336920" cy="3479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76720" y="3068640"/>
            <a:ext cx="3888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2C3-07DB-441B-AEA4-A02D9050D50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64DF7-E87D-4225-A01F-1755C2B88F29}" type="datetime1">
              <a:rPr lang="en-US"/>
              <a:t>07/30/26</a:t>
            </a:fld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4:22Z</dcterms:modified>
  <cp:revision>1</cp:revision>
  <dc:subject>主题班会课件(分28大类): http://shop62905894.taobao.com</dc:subject>
  <dc:title>主题班会课件(分28大类): http://shop62905894.taobao.com</dc:title>
</cp:coreProperties>
</file>